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A57-0931-40E9-86A3-38B0FDFE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6F2-E1BA-43CF-BBFF-2F0B16B5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E35-226B-41F8-9731-B73A0AAC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7B6-1CC8-44B9-8DD3-90E51116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FB82-62B1-47D9-A7BF-40962CFB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0F2E-478F-4B8C-B3DA-27C1F079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12C9-F9A7-45A2-B176-E9A809F2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5842-B5CD-4679-8763-17625C8E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A4E0-91F0-4CF2-B85B-E677C503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D386-6191-40CD-880A-C81D2E8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78AB-C70E-48E0-B70D-9B033B4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A42-F21F-4F53-B2FE-8169C8B6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95DF-9532-4742-ACE9-7C8A8A2D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4746-7CEF-4F5A-B975-C811F1E9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4A60-7242-43DE-AAC3-2B1A2803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8B67-2BB7-4CFE-A238-9B15DEA3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BA48-29DA-4DE1-9269-600DAFBC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793-88CA-4868-AC67-E4F5F166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EA7-A24E-4D41-AE06-243D899B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B18-0202-46A4-BD61-E0924393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D2F-12B7-4D93-A1D5-EA3E2F18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F1E-1F26-455B-9934-6D11FBE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1CC-FF27-47BD-81D0-418D2B0F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213-469B-477F-B1BA-C5CEF769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E88D-299F-49B4-893E-E9414B140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20FF-152B-4A26-BE3B-1FF83254599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1" name="Picture 3" descr="C:\Program Files\Common Files\Microsoft Shared\Clipart\cagcat50\BS00559_.wmf"/>
          <p:cNvPicPr/>
          <p:nvPr/>
        </p:nvPicPr>
        <p:blipFill>
          <a:blip r:embed="rId2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  <a:hlinkClick r:id="rId2"/>
              </a:rPr>
              <a:t>www.worldofteaching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gareth</cp:lastModifiedBy>
  <dcterms:modified xsi:type="dcterms:W3CDTF">2009-07-23T21:46:36Z</dcterms:modified>
  <cp:revision>54</cp:revision>
  <dc:subject/>
  <dc:title>the Circle</dc:title>
</cp:coreProperties>
</file>