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1F6-3622-4E8A-84AC-54C24ECE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E2D-8E63-4162-BC63-CA229CED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2B30-C73A-4887-8C3D-CE6D8614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60E-C4EA-4697-BEC3-626DA8F1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8C59-767E-41A6-9044-6A5694A3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9583-1F0F-435C-B49C-60D97686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D90A-13BD-4733-9643-671603F2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B580-A96F-438C-8018-D1DF8174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A489-D52A-49D5-9B07-F7749CA0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3225-4B52-490B-BFB2-BCD8E7CE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A968-99EF-4613-95B9-B38644DB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F53-4AF7-459A-BC0B-CE7C8367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334A-C390-44E4-B216-772C60F4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2610-A73B-4BB6-BAC5-C0810502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987F-2610-4669-B816-0498A922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A9AB-C5C0-4B0E-86DB-EF8BADA9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2870-F0A4-4692-9D4B-43C3D8DE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4F5-EBE6-4595-BA72-5C9ABB7C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958A-EDC6-4719-9EB2-12771DA2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F49-44A5-49EF-A0EB-C3F307FF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63D-A7F0-41B5-A6E9-513E874C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E70E-3E69-48BF-A089-140041C7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853-0A66-4DDA-B02A-8D3A6B8A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A573-122B-447E-90AF-03742ADE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8A52-0351-4D41-8ABF-71B9DB7EE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4E3A-5EF7-4D52-A6B5-96D5BDDD148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rldofteaching.com/" TargetMode="External"/><Relationship Id="rId3" Type="http://schemas.openxmlformats.org/officeDocument/2006/relationships/hyperlink" Target="http://www.worldofteaching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447920" y="0"/>
            <a:ext cx="678168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The Circle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By Ranjana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1" name="Picture 3" descr="C:\Program Files\Common Files\Microsoft Shared\Clipart\cagcat50\BS00559_.wmf"/>
          <p:cNvPicPr/>
          <p:nvPr/>
        </p:nvPicPr>
        <p:blipFill>
          <a:blip r:embed="rId2"/>
          <a:stretch/>
        </p:blipFill>
        <p:spPr>
          <a:xfrm>
            <a:off x="1143000" y="3124080"/>
            <a:ext cx="8001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Eg. If diameter of the circle is 10 cm then find its radiu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Oval 3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4495680" y="37339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5257800" y="3657600"/>
            <a:ext cx="2743200" cy="947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Diameter =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10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839160" y="1066680"/>
            <a:ext cx="551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Sol. Radius =diameter 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=10 cm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 =5 cm  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962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8763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Oval 2"/>
          <p:cNvSpPr/>
          <p:nvPr/>
        </p:nvSpPr>
        <p:spPr>
          <a:xfrm>
            <a:off x="5029200" y="23623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6858000" y="34290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708660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676520" y="45720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If radius of the circle is 6 cm,then find the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Line 8"/>
          <p:cNvSpPr/>
          <p:nvPr/>
        </p:nvSpPr>
        <p:spPr>
          <a:xfrm flipH="1">
            <a:off x="5028840" y="44197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5105520" y="38862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 =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483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1676520" y="1523880"/>
            <a:ext cx="45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Diameter = 2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x 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2 x 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12 cm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295280" y="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CIRCUMFERENCE AND 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600200" y="19810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Oval 4"/>
          <p:cNvSpPr/>
          <p:nvPr/>
        </p:nvSpPr>
        <p:spPr>
          <a:xfrm>
            <a:off x="3124080" y="25909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952880" y="365760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49528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WordArt 7"/>
          <p:cNvSpPr txBox="1"/>
          <p:nvPr/>
        </p:nvSpPr>
        <p:spPr>
          <a:xfrm>
            <a:off x="3657600" y="2286000"/>
            <a:ext cx="312408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3124080" y="46483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4038480" y="4724280"/>
            <a:ext cx="2895840" cy="5814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600200" y="1371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26668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73152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371600" y="457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Find the circumference (approx) of the circle whose diameter is 10c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Oval 3"/>
          <p:cNvSpPr/>
          <p:nvPr/>
        </p:nvSpPr>
        <p:spPr>
          <a:xfrm>
            <a:off x="4648320" y="2514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6477120" y="3581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4771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WordArt 6"/>
          <p:cNvSpPr txBox="1"/>
          <p:nvPr/>
        </p:nvSpPr>
        <p:spPr>
          <a:xfrm>
            <a:off x="5181480" y="2209680"/>
            <a:ext cx="312444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4648320" y="4572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952880" y="4724280"/>
            <a:ext cx="3505320" cy="106884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=10 C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1371600" y="1447920"/>
            <a:ext cx="4572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1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1148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87631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7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7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362320" y="14479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33720" y="0"/>
            <a:ext cx="6019560" cy="58140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Monotype Corsiva"/>
              </a:rPr>
              <a:t>EVALU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295280" y="533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1. what is the relation between radius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4648320" y="2895480"/>
            <a:ext cx="4114800" cy="3962520"/>
          </a:xfrm>
          <a:prstGeom prst="ellipse">
            <a:avLst/>
          </a:prstGeom>
          <a:solidFill>
            <a:srgbClr val="ff33cc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6629400" y="37339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65530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6705720" y="4724280"/>
            <a:ext cx="2057400" cy="4608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 flipH="1">
            <a:off x="4648320" y="4724280"/>
            <a:ext cx="21333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26708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8839080" y="4495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1295280" y="19051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2. What is the relation between circumference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1066680" y="388620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3. In this fig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1371600" y="13716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 .Radius=diameter/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1143000" y="28954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=3X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3048120" y="441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2209680" y="5029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2209680" y="57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ent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Rectangle 19"/>
          <p:cNvSpPr/>
          <p:nvPr/>
        </p:nvSpPr>
        <p:spPr>
          <a:xfrm>
            <a:off x="1314000" y="518148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AB is __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1372320" y="586728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 is _________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Rectangle 21"/>
          <p:cNvSpPr/>
          <p:nvPr/>
        </p:nvSpPr>
        <p:spPr>
          <a:xfrm>
            <a:off x="1157400" y="449568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A or OB is 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ff33cc"/>
                </a:solidFill>
                <a:uFillTx/>
                <a:latin typeface="Arial"/>
                <a:ea typeface="Arial"/>
                <a:hlinkClick r:id="rId2"/>
              </a:rPr>
              <a:t>www.worldofteaching.c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cc"/>
                </a:solidFill>
                <a:uFillTx/>
                <a:latin typeface="Arial"/>
                <a:ea typeface="Arial"/>
                <a:hlinkClick r:id="rId3"/>
              </a:rPr>
              <a:t>http://www.worldofteaching.com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21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Oval 3"/>
          <p:cNvSpPr/>
          <p:nvPr/>
        </p:nvSpPr>
        <p:spPr>
          <a:xfrm>
            <a:off x="2895480" y="762120"/>
            <a:ext cx="4114800" cy="396216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>
            <a:off x="5105520" y="2743200"/>
            <a:ext cx="19047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724280" y="25146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7010280" y="25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505320" y="51814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CIRCL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676520" y="59436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Eg. ball,bangle,lemon.coi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7"/>
          <p:cNvSpPr/>
          <p:nvPr/>
        </p:nvSpPr>
        <p:spPr>
          <a:xfrm>
            <a:off x="2666880" y="0"/>
            <a:ext cx="4114800" cy="396252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572000" y="16002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67816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828800" y="4419720"/>
            <a:ext cx="6172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CENTRE : 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: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 flipH="1">
            <a:off x="2666520" y="2057400"/>
            <a:ext cx="213372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4800600" y="205740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3962520" y="1295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Monotype Corsiva"/>
              </a:rPr>
              <a:t>CENT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952880" y="2057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495680" y="1523880"/>
            <a:ext cx="457200" cy="470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267080" y="914400"/>
            <a:ext cx="838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267080" y="990720"/>
            <a:ext cx="5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267080" y="152388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295280" y="3962520"/>
            <a:ext cx="784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Monotype Corsiva"/>
              </a:rPr>
              <a:t>In a plane,each point of the circle is at equal distance from a fixed point.The fixed point is called the centre of the circl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676520" y="6019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Monotype Corsiva"/>
              </a:rPr>
              <a:t>CENTRE = 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114800" y="182880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495680" y="205740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828800" y="42670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752480" y="44197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The distance from centre to any point on the circle is called radius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6553080" y="1828800"/>
            <a:ext cx="457200" cy="45972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3048120" y="5791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=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7242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2"/>
          <p:cNvSpPr/>
          <p:nvPr/>
        </p:nvSpPr>
        <p:spPr>
          <a:xfrm>
            <a:off x="2666880" y="3808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724280" y="1905120"/>
            <a:ext cx="457200" cy="4698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419720" y="1371600"/>
            <a:ext cx="53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267080" y="190512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4648320" y="380880"/>
            <a:ext cx="0" cy="396252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4800600" y="685800"/>
            <a:ext cx="5112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Monotype Corsiva"/>
              </a:rPr>
              <a:t>DI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523880" y="4648320"/>
            <a:ext cx="693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passing through the centre of the circle and whose end points lie on the circle is called the diameter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495680" y="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4495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981080" y="63244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 = A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7"/>
          <p:cNvSpPr/>
          <p:nvPr/>
        </p:nvSpPr>
        <p:spPr>
          <a:xfrm>
            <a:off x="2819520" y="6094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648320" y="16765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64832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143000" y="457200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The length of the circle or the distance around it is called  circumference of the circle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WordArt 12"/>
          <p:cNvSpPr txBox="1"/>
          <p:nvPr/>
        </p:nvSpPr>
        <p:spPr>
          <a:xfrm>
            <a:off x="3352680" y="304920"/>
            <a:ext cx="3124440" cy="676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2590920" y="228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419720" y="1295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4197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Line 6"/>
          <p:cNvSpPr/>
          <p:nvPr/>
        </p:nvSpPr>
        <p:spPr>
          <a:xfrm flipH="1">
            <a:off x="2590920" y="2286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1337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67816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143000" y="4113360"/>
            <a:ext cx="8305920" cy="33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whose both the ends touches the circumference and passes through the centre is called diameter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DIAMETER : AB</a:t>
            </a: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914400" y="6094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radius and diamet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6629400" y="37339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 flipH="1">
            <a:off x="4495320" y="373392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0384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5345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1295280" y="1676520"/>
            <a:ext cx="472464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RADIUS =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                          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380988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1371600" y="4572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 =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A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2286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1:59:43Z</dcterms:created>
  <dc:creator>army1</dc:creator>
  <dc:description/>
  <dc:language>en-US</dc:language>
  <cp:lastModifiedBy>gareth</cp:lastModifiedBy>
  <dcterms:modified xsi:type="dcterms:W3CDTF">2009-07-23T21:46:36Z</dcterms:modified>
  <cp:revision>54</cp:revision>
  <dc:subject/>
  <dc:title>the Circle</dc:title>
</cp:coreProperties>
</file>